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87D-2733-4010-9415-818DC040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879-0663-41DA-BA36-BFD262B5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9ED-F7D5-40D2-B614-945CA070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01F-D6C4-4D81-A9F9-399A9F80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B0A-11B0-490D-960E-8B518EF9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7C6-B683-431B-8E2B-447AE6CE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0A3-9ADE-4C45-94B4-38A49350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04D-41DF-4CBB-937B-9AA554A7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249-D347-42FD-9384-F8E0B907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BA2-E2A9-4595-98D4-6A33653B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736-B26B-4BB5-A293-DE1572D1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CD8-5F77-4BE3-811F-589DF4A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8656-3B57-40A5-A9BA-AC23A50CF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886200"/>
            <a:ext cx="6172200" cy="1831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dds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ate ratio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/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idence density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39720" y="2362320"/>
            <a:ext cx="39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isk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71080" y="457200"/>
            <a:ext cx="27561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162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716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3657600"/>
            <a:ext cx="4572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118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391160" cy="1933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708660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716256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86600" cy="99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010280" cy="1524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670572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43000" y="4572000"/>
            <a:ext cx="67057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51439"/>
          <a:stretch/>
        </p:blipFill>
        <p:spPr>
          <a:xfrm>
            <a:off x="990720" y="175248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41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553080" y="579132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9720" y="2362320"/>
            <a:ext cx="424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19112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3800" y="5029200"/>
            <a:ext cx="714528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But along with the rise in smoking, cam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disturbing rise in the lung cancer rate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early warnings from a handful of doctors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possible dangers from sm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05720" y="5334120"/>
            <a:ext cx="16761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315200" y="228600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2514600"/>
            <a:ext cx="48769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62012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4724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238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63760" y="2286000"/>
            <a:ext cx="394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ate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5562360" cy="281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010280" cy="2667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90720" y="3276720"/>
            <a:ext cx="76176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3276720"/>
            <a:ext cx="76212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457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181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46483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762120"/>
            <a:ext cx="761976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ebff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Cohort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American Cancer Society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76197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8660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457200"/>
            <a:ext cx="7086600" cy="947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e2dc"/>
                </a:solidFill>
                <a:latin typeface="Arial"/>
              </a:rPr>
              <a:t>Quantify relationship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c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e2dc"/>
                </a:solidFill>
                <a:latin typeface="Arial"/>
              </a:rPr>
              <a:t>Measure of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12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4674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95280" y="5410080"/>
            <a:ext cx="6477120" cy="642600"/>
          </a:xfrm>
          <a:prstGeom prst="rect">
            <a:avLst/>
          </a:prstGeom>
          <a:solidFill>
            <a:srgbClr val="85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te 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6:02Z</dcterms:modified>
  <cp:revision>1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